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EB06-9D25-419F-859F-B6C3DDFC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2B51-9DA9-4A1E-A1FD-37E09335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83E9-ED07-42DB-9CBC-C8D04F00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09BC-DDEC-40AE-94D2-E145BDF0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659-25F0-4CF1-B659-6C01518D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65A8-B3A6-4B67-AF53-C7C09C54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2B23-ED0A-45C4-9B95-87B4DD9F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1F4C-926B-44FB-88B6-27C0E25A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176-3115-4BB5-8E4B-3CA90E40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461-454B-4058-9C18-4772A71FE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865-59EF-4096-B1C6-52EDBB96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4CE-FE90-4892-A677-B079606E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0F4F-9DD2-4632-B97C-9B3F7A93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E60-BEC2-4C7E-9D12-F9DAE291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A28-E889-40FD-BD70-A8454D5A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9978-9F54-4A11-8CC8-54D5D9B6B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C1A-EF2F-4E20-97F3-99F5991C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D48-1682-4A2E-967B-B1562C65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329-919B-48F1-B480-99D0D7E9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B2DE-CC44-4B80-8387-262AAFF3E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F3B-CBF4-41EC-BBC8-296F83BC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BDA-A7F5-4FFD-8E3B-FEF9DBE4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3AD-C614-482E-AA9E-94A96770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F1E-EC9C-4185-93AF-52B3F0DF5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7B5-B6E0-4732-97B8-50E7F614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8E0-F93A-4F90-A254-E9500244D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47C0-F31A-4405-ACE2-7834600BB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049D-3C7D-435E-BA5B-A8E817071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DF3-8067-498B-A84C-72CC83E4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6C5-E3F3-4870-969B-EAF11FD5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49D-4D4D-450A-8029-CB66A982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E17-1BD3-4902-94DB-2BD173F1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37F-172F-45EA-AB22-C958957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6EF-2CB5-472D-9872-438410B5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76-C527-4F17-BA69-ACB7566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858-3FBC-458D-B4B7-FD34DBAA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0FD-33AC-4641-8666-901599F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E6-023F-4AA3-AA44-0E8D8F9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3D3-C85C-4F9A-B671-D1829AB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D0D-9464-4CFD-A5A2-F4D57FB8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0FAA-930B-43EF-93F2-56C41DA6DCE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enlancour@charter.ne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"/>
          <p:cNvPicPr/>
          <p:nvPr/>
        </p:nvPicPr>
        <p:blipFill>
          <a:blip r:embed="rId1"/>
          <a:stretch/>
        </p:blipFill>
        <p:spPr>
          <a:xfrm>
            <a:off x="1652760" y="471600"/>
            <a:ext cx="3073320" cy="16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2238120"/>
            <a:ext cx="848196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2011 ECOLOGY (B&amp;C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03440" y="4543200"/>
            <a:ext cx="4840200" cy="19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0f9f"/>
                </a:solidFill>
                <a:latin typeface="Calibri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National Bio Rules Committee Chair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karenlancour@charter.n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Growth Cu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xpgrowth"/>
          <p:cNvPicPr/>
          <p:nvPr/>
        </p:nvPicPr>
        <p:blipFill>
          <a:blip r:embed="rId1"/>
          <a:stretch/>
        </p:blipFill>
        <p:spPr>
          <a:xfrm>
            <a:off x="1460520" y="1893960"/>
            <a:ext cx="7182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Human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umpop_2"/>
          <p:cNvPicPr/>
          <p:nvPr/>
        </p:nvPicPr>
        <p:blipFill>
          <a:blip r:embed="rId1"/>
          <a:stretch/>
        </p:blipFill>
        <p:spPr>
          <a:xfrm>
            <a:off x="1230480" y="1852560"/>
            <a:ext cx="7643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Survival Cu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5186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Survivorship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is the percentage of remaining survivors of a population over time; usually shown graphicall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Type I survivorship cur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most individuals live out their life span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die of old age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(e.g., humans)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Type II survivorship cur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individuals die at a constant rate (e.g., birds, rodents, and 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perennial plants)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en-US" sz="2000" spc="-1" strike="noStrike" u="sng">
                <a:solidFill>
                  <a:srgbClr val="c0504d"/>
                </a:solidFill>
                <a:uFillTx/>
                <a:latin typeface="Calibri"/>
              </a:rPr>
              <a:t>Type III survivorship cur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most individuals die early in life (e.g., fishes, invertebrates, and plants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Survival Curve"/>
          <p:cNvPicPr/>
          <p:nvPr/>
        </p:nvPicPr>
        <p:blipFill>
          <a:blip r:embed="rId1"/>
          <a:stretch/>
        </p:blipFill>
        <p:spPr>
          <a:xfrm>
            <a:off x="5334120" y="2276640"/>
            <a:ext cx="3809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8320" y="214200"/>
            <a:ext cx="71755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COMMUNI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7760" y="2046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losed vs. Open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Closed – 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harp bound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Open – 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Lack boundaries</a:t>
            </a: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pecies abundance and d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rophic Structure of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Food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Food w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Trophic pyramid</a:t>
            </a: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INTERACTIONS AMONG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Inter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Interspecific compet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Explo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Symbiosis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6480" y="214200"/>
            <a:ext cx="7137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ypes of Species Interaction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3360" y="2162160"/>
            <a:ext cx="872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Neutral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two species do not inter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Mutualis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both bene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ommensalis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one benefits, other neut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arasitis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one benefits, one ha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but not kill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ation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– one benefits, other 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0560" y="214200"/>
            <a:ext cx="698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Predator -  Prey Relatio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graphpred"/>
          <p:cNvPicPr/>
          <p:nvPr/>
        </p:nvPicPr>
        <p:blipFill>
          <a:blip r:embed="rId1"/>
          <a:stretch/>
        </p:blipFill>
        <p:spPr>
          <a:xfrm>
            <a:off x="1154160" y="1930320"/>
            <a:ext cx="6989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Food Cha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046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rose pla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aphid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beet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66ccff"/>
                </a:solidFill>
                <a:latin typeface="Calibri"/>
              </a:rPr>
              <a:t>chamele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haw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Produ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1</a:t>
            </a:r>
            <a:r>
              <a:rPr b="1" lang="en-US" sz="2800" spc="-1" strike="noStrike" baseline="30000">
                <a:solidFill>
                  <a:srgbClr val="c0504d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order Consumer or Herb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80008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order Consumer or 1</a:t>
            </a:r>
            <a:r>
              <a:rPr b="1" lang="en-US" sz="2800" spc="-1" strike="noStrike" baseline="30000">
                <a:solidFill>
                  <a:srgbClr val="80008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order Carn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alibri"/>
              </a:rPr>
              <a:t>3</a:t>
            </a:r>
            <a:r>
              <a:rPr b="1" lang="en-US" sz="2800" spc="-1" strike="noStrike" baseline="30000">
                <a:solidFill>
                  <a:srgbClr val="66ccff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66ccff"/>
                </a:solidFill>
                <a:latin typeface="Calibri"/>
              </a:rPr>
              <a:t> order Consumer or 2</a:t>
            </a:r>
            <a:r>
              <a:rPr b="1" lang="en-US" sz="2800" spc="-1" strike="noStrike" baseline="30000">
                <a:solidFill>
                  <a:srgbClr val="66ccff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66ccff"/>
                </a:solidFill>
                <a:latin typeface="Calibri"/>
              </a:rPr>
              <a:t> order Carn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8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order Consumer or 3</a:t>
            </a:r>
            <a:r>
              <a:rPr b="1" lang="en-US" sz="2800" spc="-1" strike="noStrike" baseline="30000">
                <a:solidFill>
                  <a:srgbClr val="1f497d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order Carniv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Decomposers – consume dead and decaying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reshwater_foodweb_k3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Energy Fl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Energy Flow Pyra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Bio-mass Pyra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munity Succession and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Nutrient Recycling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nutrient cycl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vent Rules – 2011</a:t>
            </a:r>
            <a:r>
              <a:rPr b="0" lang="en-US" sz="4400" spc="-1" strike="noStrike">
                <a:solidFill>
                  <a:srgbClr val="a7639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Calibri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This presentation was prepared using draft rules.  There may be some changes in the final copy of the rules.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 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nergy vs Nutr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0000" y="201780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utri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yc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(Biogeochemical Cycl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Energy f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one w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Energy vs Chemicals"/>
          <p:cNvPicPr/>
          <p:nvPr/>
        </p:nvPicPr>
        <p:blipFill>
          <a:blip r:embed="rId1"/>
          <a:stretch/>
        </p:blipFill>
        <p:spPr>
          <a:xfrm>
            <a:off x="3689280" y="1844640"/>
            <a:ext cx="54547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ic Pyramid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6621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Ecological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a graph representing trophic level numbers within an ecosystem. The primary producer level is at the base of the pyramid with the consumer levels abo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Numbers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compares the number of individuals in each trophic lev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Biomass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compares the total dry weight of the organisms in each trophic level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Energy pyram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10f9f"/>
                </a:solidFill>
                <a:latin typeface="Calibri"/>
              </a:rPr>
              <a:t>compares the total amount of energy available in each trophic level. This energy is usually measured in kilocalo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Numbers Pyram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Numbers Pyramid 2"/>
          <p:cNvPicPr/>
          <p:nvPr/>
        </p:nvPicPr>
        <p:blipFill>
          <a:blip r:embed="rId1"/>
          <a:stretch/>
        </p:blipFill>
        <p:spPr>
          <a:xfrm>
            <a:off x="654120" y="2122560"/>
            <a:ext cx="82249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Biomass &amp; Energy Flow 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Pyram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enpyr_1"/>
          <p:cNvPicPr/>
          <p:nvPr/>
        </p:nvPicPr>
        <p:blipFill>
          <a:blip r:embed="rId1"/>
          <a:stretch/>
        </p:blipFill>
        <p:spPr>
          <a:xfrm>
            <a:off x="539640" y="2238480"/>
            <a:ext cx="8604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41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Biogeochemical Cyc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1880" y="16617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Hydrologic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Phosphorus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Nitroge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0f9f"/>
                </a:solidFill>
                <a:latin typeface="Calibri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Hydrologic (Water)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Water Cycle 2"/>
          <p:cNvPicPr/>
          <p:nvPr/>
        </p:nvPicPr>
        <p:blipFill>
          <a:blip r:embed="rId1"/>
          <a:stretch/>
        </p:blipFill>
        <p:spPr>
          <a:xfrm>
            <a:off x="1116000" y="2201760"/>
            <a:ext cx="67215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Phosphorus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Phorphorus cycle"/>
          <p:cNvPicPr/>
          <p:nvPr/>
        </p:nvPicPr>
        <p:blipFill>
          <a:blip r:embed="rId1"/>
          <a:stretch/>
        </p:blipFill>
        <p:spPr>
          <a:xfrm>
            <a:off x="309600" y="1789200"/>
            <a:ext cx="83725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Nitrogen cycle"/>
          <p:cNvPicPr/>
          <p:nvPr/>
        </p:nvPicPr>
        <p:blipFill>
          <a:blip r:embed="rId1"/>
          <a:stretch/>
        </p:blipFill>
        <p:spPr>
          <a:xfrm>
            <a:off x="1576440" y="2017800"/>
            <a:ext cx="68356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Carbon Cyc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arbon cycle"/>
          <p:cNvPicPr/>
          <p:nvPr/>
        </p:nvPicPr>
        <p:blipFill>
          <a:blip r:embed="rId1"/>
          <a:stretch/>
        </p:blipFill>
        <p:spPr>
          <a:xfrm>
            <a:off x="1192320" y="1755720"/>
            <a:ext cx="72975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Biosp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5560" y="20178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ypes of Ecological Sphe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Hydr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iogeochemical Cyc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Disruption of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pecie Extinction &amp; Biosphere De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vent Rules – 2011</a:t>
            </a:r>
            <a:r>
              <a:rPr b="0" lang="en-US" sz="4400" spc="-1" strike="noStrike">
                <a:solidFill>
                  <a:srgbClr val="a7639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0f9f"/>
                </a:solidFill>
                <a:latin typeface="Calibri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Section II: ECOLOGY OF 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    BI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3720" y="2017440"/>
            <a:ext cx="853128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Weather and Climat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ypes of Biomes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Aquatic bi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Terrestrial bi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2010 –  Biomes of North America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Gras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Taiga (Boreal Forest or Coniferous Forest)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errestrial Biomes – Latitude vs. Altitud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AltitudeVsLatitude012"/>
          <p:cNvPicPr/>
          <p:nvPr/>
        </p:nvPicPr>
        <p:blipFill>
          <a:blip r:embed="rId1"/>
          <a:stretch/>
        </p:blipFill>
        <p:spPr>
          <a:xfrm>
            <a:off x="385920" y="2328840"/>
            <a:ext cx="84103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8200" y="214200"/>
            <a:ext cx="84880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639d"/>
                </a:solidFill>
                <a:latin typeface="Calibri"/>
              </a:rPr>
              <a:t>Biomes: </a:t>
            </a:r>
            <a:br>
              <a:rPr sz="3200"/>
            </a:br>
            <a:r>
              <a:rPr b="1" lang="en-US" sz="3200" spc="-1" strike="noStrike">
                <a:solidFill>
                  <a:srgbClr val="a7639d"/>
                </a:solidFill>
                <a:latin typeface="Calibri"/>
              </a:rPr>
              <a:t>Temperature and Climate for Terrestrial Bio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biome_alt"/>
          <p:cNvPicPr/>
          <p:nvPr/>
        </p:nvPicPr>
        <p:blipFill>
          <a:blip r:embed="rId1"/>
          <a:stretch/>
        </p:blipFill>
        <p:spPr>
          <a:xfrm>
            <a:off x="539640" y="1784520"/>
            <a:ext cx="7910640" cy="49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Adaptations of Plants &amp;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4120" y="201780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Not intended to be a taxonomic ev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Emphasis on adaptations of common plants and animals to each bi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mon members of food chains and food webs of each biom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Limiting factors for each bi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1520" y="214200"/>
            <a:ext cx="8064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AIGA OF NORTH 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1880" y="2017800"/>
            <a:ext cx="453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2nd largest forest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ing Artic between Artic and Deciduous Forest – 50 to 60 degrees North Latitu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Upper elevations of Mount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Taiga2"/>
          <p:cNvPicPr/>
          <p:nvPr/>
        </p:nvPicPr>
        <p:blipFill>
          <a:blip r:embed="rId1"/>
          <a:stretch/>
        </p:blipFill>
        <p:spPr>
          <a:xfrm>
            <a:off x="4802040" y="2033640"/>
            <a:ext cx="41101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1920" y="214200"/>
            <a:ext cx="798192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iaga or Boreal (Evergreen) forests of North Ame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taiga - boreal forest 2"/>
          <p:cNvPicPr/>
          <p:nvPr/>
        </p:nvPicPr>
        <p:blipFill>
          <a:blip r:embed="rId1"/>
          <a:stretch/>
        </p:blipFill>
        <p:spPr>
          <a:xfrm>
            <a:off x="5072040" y="2276640"/>
            <a:ext cx="3479760" cy="3174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aiga - boreal forest"/>
          <p:cNvPicPr/>
          <p:nvPr/>
        </p:nvPicPr>
        <p:blipFill>
          <a:blip r:embed="rId2"/>
          <a:stretch/>
        </p:blipFill>
        <p:spPr>
          <a:xfrm>
            <a:off x="731880" y="2622600"/>
            <a:ext cx="38098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 – Abiotic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930320"/>
            <a:ext cx="91440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Angle of incidence for incoming solar radiation is low and twilight lasts many h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easons- short, moist and moderately warm summers &amp; long, cold, dry winters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emperature:  -65 to 70 degrees Fahrenhe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Variable precipitation: 6-40 in (15-100 cm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oils – thin because they were scraped by glaciers and very acid because of decomposition of pine need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Absence of earth-churning invertebrates as earthworms so soil is hard and comp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ire a major factor in maintaining bi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Environmental Importance</a:t>
            </a:r>
            <a:br>
              <a:rPr sz="4000"/>
            </a:b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of the Taig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2046240"/>
            <a:ext cx="87580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ilters millions of liters of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tores large amounts of carb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Produces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ebuilds soils and restores nutr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ogs and marshes provides habitats for large numbers of species from fish to bi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 - Food we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Boreal Forest Food Web"/>
          <p:cNvPicPr/>
          <p:nvPr/>
        </p:nvPicPr>
        <p:blipFill>
          <a:blip r:embed="rId1"/>
          <a:stretch/>
        </p:blipFill>
        <p:spPr>
          <a:xfrm>
            <a:off x="1268280" y="1163520"/>
            <a:ext cx="70675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Types of Pla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7400" y="2017440"/>
            <a:ext cx="86072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Conifers are major produc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Most common types – spruce, balsam fir and p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Others – hemlock, cedar, redwood, juni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Latitude and altitude influence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erry-producing shrubs important to birds, mammals and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Some types of fungi, lichens, and mo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RAINING MATERI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9640" y="1009800"/>
            <a:ext cx="8685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Training Power Point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content over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Training Handout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content inform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le Tournament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sample problems with key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Event Supervisor Guide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prep tips, setup needs, and scoring t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Internet Resources &amp; Training Materials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– on the Science Olympiad website at 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oinc.org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 under Ev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A Biology-Earth Science CD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as well as the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Division B and Division C Test Packets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are available from SO store at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inc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Plant Adap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640" y="2017440"/>
            <a:ext cx="86850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Trees have upside down cone shape so snow slides off the branch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Branches are flexible to hold great amounts of snow and not br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Trees grow thin and close together to protect them from cold and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Needles waxy for protection from freezing temperatures and prevent them from drying 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Needles are present year round and deep green to absorb the maximum warmth from the su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Thick bark which does not easily burn and protects inner layers from heat and cones protect the s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 Types of Anim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1547280"/>
            <a:ext cx="8955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sects – millions of insects in the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birds – up to 3 billion insect-eating birds breed each year in Taiga – over 200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eed eaters like finches and sparrows as well as omnivorous birds as crows stay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rossbill has specialized bill for prying open cones and nuthatch can break the cones ope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erbivores as small mammals, snowshoe rabbits, red squirrels, voles  and le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edators feeding on small mammals as owls, wolves, lynx, bobcats, minks, wolverines, weasels, mink, otters, martens, fishers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eer, elk and mo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argest predators as grizzlies, lynx, and mountain lions will also feed on weakened or young deer, elk or mo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867384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aiga:  Animal Adaptations for long cold winters and hot summ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31480" y="2017440"/>
            <a:ext cx="8723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igrate south in winter (bird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go into hibernation during win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tore extra fat layers on their bodies for win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hange diets from season to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grow extra fur on the bottom of their feet to tread on snow easier  (lynx and snowshoe rab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hange fur color and coat thickness from season to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ve under snow in winter in snow tunnels (lemmings, mice, shrews, voles)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1520" y="2743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Environmental Concer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5560" y="1469520"/>
            <a:ext cx="856908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ollution Clear 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llegal logg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orest fires – unnatural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rilling for oil and natural gas disrupt the 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Global warming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aiga:  Role in Earth’s Clim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355760"/>
            <a:ext cx="91440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It stores large quantities of carbon stored as plant material on forest floor (up to 10 feet in some are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1 cm of plant material can hold 2.5 tons of carbon per ac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Taiga acts like a large refrigerator preventing fallen trees, needles and other debris from decompo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Heating up the taiga is causing the following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Litter decomposes putting carbon into the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Increases in forest fi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Infestation by bark beetles which is killing the tr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Dead trees - tinder to fuel the forest fires and adding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more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arbon dioxide into the atmosphe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UNDRA OF NORTH 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1508040"/>
            <a:ext cx="36496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bout one fifth of the land surface of the earth is tund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Located next to icy zones in the arctic encircling North Pole down to Taiga. (Arctic Tundra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Located at the top of mountains above the tree line ( Alpine Tundra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6" descr="Tundra map.gif"/>
          <p:cNvPicPr/>
          <p:nvPr/>
        </p:nvPicPr>
        <p:blipFill>
          <a:blip r:embed="rId1"/>
          <a:stretch/>
        </p:blipFill>
        <p:spPr>
          <a:xfrm>
            <a:off x="4417920" y="1355760"/>
            <a:ext cx="3921120" cy="257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rctic Tundra and Alaska Pipeline - Alaska"/>
          <p:cNvPicPr/>
          <p:nvPr/>
        </p:nvPicPr>
        <p:blipFill>
          <a:blip r:embed="rId2"/>
          <a:stretch/>
        </p:blipFill>
        <p:spPr>
          <a:xfrm>
            <a:off x="4341960" y="3352680"/>
            <a:ext cx="4262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OF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Alpine tundra photos"/>
          <p:cNvPicPr/>
          <p:nvPr/>
        </p:nvPicPr>
        <p:blipFill>
          <a:blip r:embed="rId1"/>
          <a:stretch/>
        </p:blipFill>
        <p:spPr>
          <a:xfrm>
            <a:off x="1230480" y="1623960"/>
            <a:ext cx="6567480" cy="22622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501480" y="4235400"/>
            <a:ext cx="818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Simple vegetation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imitation of drain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Energy and nutrients in the form of dead orga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Large population oscil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– Abiotic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3680" y="1278000"/>
            <a:ext cx="8794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gle of incidenc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or incoming solar radiation is low and twilight lasts many h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Temperature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xtremely cold - from  -30</a:t>
            </a:r>
            <a:r>
              <a:rPr b="1" lang="en-US" sz="2400" spc="-1" strike="noStrike" baseline="30000">
                <a:solidFill>
                  <a:srgbClr val="7030a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 to -40</a:t>
            </a:r>
            <a:r>
              <a:rPr b="1" lang="en-US" sz="2400" spc="-1" strike="noStrike" baseline="30000">
                <a:solidFill>
                  <a:srgbClr val="7030a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 in winter; average winter temperature of  - 34 degrees C ( -30 degrees F).  Highest summer temperature is only about 10</a:t>
            </a:r>
            <a:r>
              <a:rPr b="1" lang="en-US" sz="2400" spc="-1" strike="noStrike" baseline="30000">
                <a:solidFill>
                  <a:srgbClr val="7030a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nual precipitation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mostly as snow) is 6 to 10 inches (15 to 25 cm) which is desert-l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Winds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often reach speeds of 30 to 60 miles (48 to 97 km/h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unlight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During the winter there are only a few hours or less of sunlight in the summer, there is sunlight almost 24 hours a 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Ground surface -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pongy, uneven as a result of freezing and tha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Permafrost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- Plains of tundra are covered with snow, ice and frozen soil most of the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Growing Season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- Short season of growth and reproduction - from 50 to 6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7800" y="214200"/>
            <a:ext cx="7988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Food We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61920" y="1393920"/>
            <a:ext cx="7680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Energy Pyram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http://www.world-builders.org/lessons/less/biomes/tundra/tundragifs/predpy.gif"/>
          <p:cNvPicPr/>
          <p:nvPr/>
        </p:nvPicPr>
        <p:blipFill>
          <a:blip r:embed="rId1"/>
          <a:stretch/>
        </p:blipFill>
        <p:spPr>
          <a:xfrm>
            <a:off x="1884240" y="1432080"/>
            <a:ext cx="51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1880" y="27936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VENT COMPON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5600" y="1815840"/>
            <a:ext cx="81946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cology Content –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inciples of Ecology  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(about 50 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aiga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undra (new) 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of North America (about 5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Process skills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in data, graph and diagram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vent parameters – </a:t>
            </a:r>
            <a:r>
              <a:rPr b="1" i="1" lang="en-US" sz="2800" spc="-1" strike="noStrike">
                <a:solidFill>
                  <a:srgbClr val="009900"/>
                </a:solidFill>
                <a:latin typeface="Calibri"/>
              </a:rPr>
              <a:t>check the event parameters in the rules for resources allo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 of North Ame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Content Placeholder 3" descr="a food pyramid"/>
          <p:cNvPicPr/>
          <p:nvPr/>
        </p:nvPicPr>
        <p:blipFill>
          <a:blip r:embed="rId1"/>
          <a:stretch/>
        </p:blipFill>
        <p:spPr>
          <a:xfrm>
            <a:off x="961920" y="1355760"/>
            <a:ext cx="73360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lants of the Tun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Lichen"/>
          <p:cNvPicPr/>
          <p:nvPr/>
        </p:nvPicPr>
        <p:blipFill>
          <a:blip r:embed="rId1"/>
          <a:stretch/>
        </p:blipFill>
        <p:spPr>
          <a:xfrm>
            <a:off x="770040" y="1355760"/>
            <a:ext cx="2878200" cy="2763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Polytrichum Moss"/>
          <p:cNvPicPr/>
          <p:nvPr/>
        </p:nvPicPr>
        <p:blipFill>
          <a:blip r:embed="rId2"/>
          <a:stretch/>
        </p:blipFill>
        <p:spPr>
          <a:xfrm>
            <a:off x="5340240" y="741240"/>
            <a:ext cx="3341880" cy="276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Arctic Tundra Wildflowers - Alaska"/>
          <p:cNvPicPr/>
          <p:nvPr/>
        </p:nvPicPr>
        <p:blipFill>
          <a:blip r:embed="rId3"/>
          <a:stretch/>
        </p:blipFill>
        <p:spPr>
          <a:xfrm>
            <a:off x="4111560" y="3889440"/>
            <a:ext cx="37242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lants of the Tun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About 1,700 kinds of pl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Tiny flowering plants (4 inches or less in heigh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gra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lichens – crustose and folio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sed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willow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 – Plant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1840" y="1316160"/>
            <a:ext cx="845496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any of the plants are perennials so they can store food from season to sea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ust adapt to strong winds and disturbances in soi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Plants are short and group toget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orm little cushions or mats close to the ground where ground is warmer than the ai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Carry out photosynthesis at low temperatures and low light intens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Adapt to short growing seasons by reproducing by asexually rather than sexu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Animals of the 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5" descr="lemming"/>
          <p:cNvPicPr/>
          <p:nvPr/>
        </p:nvPicPr>
        <p:blipFill>
          <a:blip r:embed="rId1"/>
          <a:stretch/>
        </p:blipFill>
        <p:spPr>
          <a:xfrm>
            <a:off x="1116000" y="1662120"/>
            <a:ext cx="3029040" cy="1590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arctic fox"/>
          <p:cNvPicPr/>
          <p:nvPr/>
        </p:nvPicPr>
        <p:blipFill>
          <a:blip r:embed="rId2"/>
          <a:stretch/>
        </p:blipFill>
        <p:spPr>
          <a:xfrm>
            <a:off x="693720" y="3697200"/>
            <a:ext cx="2971800" cy="191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a snowy owl"/>
          <p:cNvPicPr/>
          <p:nvPr/>
        </p:nvPicPr>
        <p:blipFill>
          <a:blip r:embed="rId3"/>
          <a:stretch/>
        </p:blipFill>
        <p:spPr>
          <a:xfrm>
            <a:off x="5916600" y="1469880"/>
            <a:ext cx="2857680" cy="1886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musk ox"/>
          <p:cNvPicPr/>
          <p:nvPr/>
        </p:nvPicPr>
        <p:blipFill>
          <a:blip r:embed="rId4"/>
          <a:stretch/>
        </p:blipFill>
        <p:spPr>
          <a:xfrm>
            <a:off x="4533840" y="3774960"/>
            <a:ext cx="34671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000" y="214200"/>
            <a:ext cx="86738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Animals of the 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Primary consumers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(Herbivores) – 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lemmings, insects, musk oxen, reinde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econdary consumers    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</a:rPr>
              <a:t>( Carnivores) – 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snow owls, arctic foxes, polar bea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igratory birds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: ravens, snow buntings, falcons, loons, sandpipers, terns, snow birds, and various species of gu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Insects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: mosquitoes, flies, moths, grasshoppers, blackflies and arctic bumble be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ish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: cod, flatfish, salmon, and tr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Reptiles and amphibians </a:t>
            </a:r>
            <a:r>
              <a:rPr b="1" lang="en-US" sz="3000" spc="-1" strike="noStrike">
                <a:solidFill>
                  <a:srgbClr val="c10f9f"/>
                </a:solidFill>
                <a:latin typeface="Calibri"/>
              </a:rPr>
              <a:t>are few or ab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000" y="214200"/>
            <a:ext cx="8673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TUNDRA:  Animal Adap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1480" y="1469520"/>
            <a:ext cx="872316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Must adapt to extremely cold win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Breed and raise their young very quickly during the short sum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Many as birds migrate south in the w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Many of those that stay - hibernate during the w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nstant immigration and emigration – Population constantly oscill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Environmental Importance</a:t>
            </a:r>
            <a:br>
              <a:rPr sz="4000"/>
            </a:b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of the TUNDR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623600"/>
            <a:ext cx="9144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Filters millions of liters of wat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Stores large amounts of carb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The permafrost layers doesn’t normally thaw out, so the organic matter stored in them is effectively trapped for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Global warming lowers the thaw depth, and the peat and organic matter begins decaying inputting of CO</a:t>
            </a:r>
            <a:r>
              <a:rPr b="1" lang="en-US" sz="3600" spc="-1" strike="noStrike" baseline="-25000">
                <a:solidFill>
                  <a:srgbClr val="4f81bd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4f81bd"/>
                </a:solidFill>
                <a:latin typeface="Calibri"/>
              </a:rPr>
              <a:t> to the atmosp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0000" y="274320"/>
            <a:ext cx="8416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: Environmental Concer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9640" y="1163520"/>
            <a:ext cx="868500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Large scale extraction industries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( oil, gas, and minerals as uraniu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Pollution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– chemical waste, mining, hydroelectric develop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Expansion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of agriculture/livestock, vehicular traffic, and tourism increase degra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Global warming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– 1/3 of soil bound carbon is found in this are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Melting of permafrost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releases large amounts of carbon into the atmosphere increas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Greenhouse Affect” 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as organic matter decays and released carbon dioxide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Erosion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is emerging due to permafrost thaw  and overgraz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10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10f9f"/>
                </a:solidFill>
                <a:latin typeface="Calibri"/>
              </a:rPr>
              <a:t>Poaching</a:t>
            </a:r>
            <a:r>
              <a:rPr b="1" lang="en-US" sz="2500" spc="-1" strike="noStrike">
                <a:solidFill>
                  <a:srgbClr val="4f81bd"/>
                </a:solidFill>
                <a:latin typeface="Calibri"/>
              </a:rPr>
              <a:t> – hunting and fishing out of season, on protected land, or to endangered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TUNDRA:  Role in Earth’s Clim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global warming is happening at twice the rate of more temperate regions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affect the release or retention of greenhouse gases such as carbon dioxide and metha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methane is 20 times more efficient at trapping warmth than carbon diox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soil nutrients, plant type, and plant biomass will be affected by changes in soil moisture and can  modify the amount and types of greenhouse g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the climate balance could tip not just in the Arctic, but throughout the wor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7639d"/>
                </a:solidFill>
                <a:latin typeface="Calibri"/>
              </a:rPr>
              <a:t>Section I:  General Principles of Ecolo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1880" y="20178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COLOGY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how organisms interact with one another and with their environment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NVIRONMENT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living and non-living compon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ABIOTIC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non-living component or physical factors as soil, rainfall, sunlight, temper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IOTIC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– living component are other organisms</a:t>
            </a: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440" y="214200"/>
            <a:ext cx="83660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5560" y="20178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INDIVIDUAL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individual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POPULATION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organisms of same species in same area (biotic fact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MUNITY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several populations in same area (biotic factors)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ECOSYSTEM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community plus abiotic fac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BIOSPHERE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all ecosystems o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6920" y="190440"/>
            <a:ext cx="6267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INDIV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008080"/>
            <a:ext cx="88344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Homeostasis </a:t>
            </a: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– delicate balance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Physiological Ec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Temperature and Water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Light and Biologic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Physiological Ecology and Conservation</a:t>
            </a: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639d"/>
                </a:solidFill>
                <a:latin typeface="Calibri"/>
              </a:rPr>
              <a:t>ECOLOGY OF POP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1880" y="20178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roperties of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atterns of distribution and 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Intraspecific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opulation dyna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Growth and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ltering population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Human impact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nLancour</dc:creator>
  <dc:description/>
  <dc:language>en-US</dc:language>
  <cp:lastModifiedBy>Karen Lancour</cp:lastModifiedBy>
  <dcterms:modified xsi:type="dcterms:W3CDTF">2010-07-17T16:27:35Z</dcterms:modified>
  <cp:revision>60</cp:revision>
  <dc:subject/>
  <dc:title>PowerPoint Presentation</dc:title>
</cp:coreProperties>
</file>